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BBACDAE-447D-4A56-A1E8-EB509E535C41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微软雅黑"/>
              </a:rPr>
              <a:t>编辑母版文本样式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宋体"/>
              </a:rPr>
              <a:t>第二级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宋体"/>
              </a:rPr>
              <a:t>第三级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宋体"/>
              </a:rPr>
              <a:t>第四级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宋体"/>
              </a:rPr>
              <a:t>第五级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B203B21-A2B3-4F71-BE5D-058AA507B161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15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A2A-E128-4A5F-A5E8-3834E4C2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FA0-1E87-4FBB-908A-628933CE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425-941C-4E8A-A368-95CBA954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4F5-0F2F-48BC-9478-D4DC6128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6E9-0076-4FCA-9C94-9E8D6FB4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BA7-9811-4F26-AFF8-20E57793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EE4-82D9-4A37-8527-59C4BB44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735-8F09-40E8-94A7-062BC2D4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316-5136-460A-90CF-B29DE333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11B-807B-4AB5-BE19-8B32CAB9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7A5-177E-47EA-B4E1-022072D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AE2-7FDC-44E1-8DDF-27214D9E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" spc="-1" strike="noStrike" u="sng">
                <a:solidFill>
                  <a:srgbClr val="000000"/>
                </a:solidFill>
                <a:uFillTx/>
                <a:latin typeface="等线"/>
              </a:rPr>
              <a:t>Click to edit the outline text format</a:t>
            </a: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  <a:p>
            <a:pPr lvl="1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" spc="-1" strike="noStrike" u="sng">
                <a:solidFill>
                  <a:srgbClr val="000000"/>
                </a:solidFill>
                <a:uFillTx/>
                <a:latin typeface="等线"/>
              </a:rPr>
              <a:t>Second Outline Level</a:t>
            </a: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  <a:p>
            <a:pPr lvl="2"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" spc="-1" strike="noStrike" u="sng">
                <a:solidFill>
                  <a:srgbClr val="000000"/>
                </a:solidFill>
                <a:uFillTx/>
                <a:latin typeface="等线"/>
              </a:rPr>
              <a:t>Third Outline Level</a:t>
            </a: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  <a:p>
            <a:pPr lvl="3" marL="1371600" indent="-1371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" spc="-1" strike="noStrike" u="sng">
                <a:solidFill>
                  <a:srgbClr val="000000"/>
                </a:solidFill>
                <a:uFillTx/>
                <a:latin typeface="等线"/>
              </a:rPr>
              <a:t>Fourth Outline Level</a:t>
            </a: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  <a:p>
            <a:pPr lvl="4" marL="1828800" indent="-1828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等线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" spc="-1" strike="noStrike" u="sng">
                <a:solidFill>
                  <a:srgbClr val="000000"/>
                </a:solidFill>
                <a:uFillTx/>
                <a:latin typeface="等线"/>
              </a:rPr>
              <a:t>Fifth Outline Level</a:t>
            </a: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  <a:p>
            <a:pPr lvl="5" marL="1828800" indent="-1828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等线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" spc="-1" strike="noStrike" u="sng">
                <a:solidFill>
                  <a:srgbClr val="000000"/>
                </a:solidFill>
                <a:uFillTx/>
                <a:latin typeface="等线"/>
              </a:rPr>
              <a:t>Sixth Outline Level</a:t>
            </a: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  <a:p>
            <a:pPr lvl="6" marL="1828800" indent="-1828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等线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" spc="-1" strike="noStrike" u="sng">
                <a:solidFill>
                  <a:srgbClr val="000000"/>
                </a:solidFill>
                <a:uFillTx/>
                <a:latin typeface="等线"/>
              </a:rPr>
              <a:t>Seventh Outline Level</a:t>
            </a:r>
            <a:endParaRPr b="0" lang="en-US" sz="300" spc="-1" strike="noStrike" u="sng">
              <a:solidFill>
                <a:srgbClr val="000000"/>
              </a:solidFill>
              <a:uFillTx/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A658E89-6B02-445C-8691-A904E3B1CEB3}" type="datetime">
              <a:rPr b="0" lang="zh-CN" sz="900" spc="-1" strike="noStrike">
                <a:solidFill>
                  <a:srgbClr val="898989"/>
                </a:solidFill>
                <a:latin typeface="等线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F62E3F9-EB38-4FCA-A2D8-438C9C0CA88B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1" descr=""/>
          <p:cNvPicPr/>
          <p:nvPr/>
        </p:nvPicPr>
        <p:blipFill>
          <a:blip r:embed="rId1"/>
          <a:stretch/>
        </p:blipFill>
        <p:spPr>
          <a:xfrm>
            <a:off x="396720" y="458640"/>
            <a:ext cx="2293920" cy="434844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7"/>
          <p:cNvGrpSpPr/>
          <p:nvPr/>
        </p:nvGrpSpPr>
        <p:grpSpPr>
          <a:xfrm>
            <a:off x="382680" y="1852560"/>
            <a:ext cx="2322360" cy="1001880"/>
            <a:chOff x="382680" y="1852560"/>
            <a:chExt cx="2322360" cy="1001880"/>
          </a:xfrm>
        </p:grpSpPr>
        <p:sp>
          <p:nvSpPr>
            <p:cNvPr id="51" name="矩形 1"/>
            <p:cNvSpPr/>
            <p:nvPr/>
          </p:nvSpPr>
          <p:spPr>
            <a:xfrm>
              <a:off x="382680" y="1852560"/>
              <a:ext cx="2322360" cy="1001880"/>
            </a:xfrm>
            <a:prstGeom prst="rect">
              <a:avLst/>
            </a:prstGeom>
            <a:solidFill>
              <a:srgbClr val="61c2ed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文本框 2"/>
            <p:cNvSpPr/>
            <p:nvPr/>
          </p:nvSpPr>
          <p:spPr>
            <a:xfrm>
              <a:off x="668160" y="2014920"/>
              <a:ext cx="1359360" cy="7034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 录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3" name="立方体 13"/>
          <p:cNvSpPr/>
          <p:nvPr/>
        </p:nvSpPr>
        <p:spPr>
          <a:xfrm>
            <a:off x="3111480" y="847800"/>
            <a:ext cx="3390840" cy="552240"/>
          </a:xfrm>
          <a:prstGeom prst="cube">
            <a:avLst>
              <a:gd name="adj" fmla="val 11856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出台背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立方体 14"/>
          <p:cNvSpPr/>
          <p:nvPr/>
        </p:nvSpPr>
        <p:spPr>
          <a:xfrm>
            <a:off x="3036960" y="2308320"/>
            <a:ext cx="3421080" cy="552240"/>
          </a:xfrm>
          <a:prstGeom prst="cube">
            <a:avLst>
              <a:gd name="adj" fmla="val 11856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阶段性减免企业社保三险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立方体 15"/>
          <p:cNvSpPr/>
          <p:nvPr/>
        </p:nvSpPr>
        <p:spPr>
          <a:xfrm>
            <a:off x="3143160" y="3629160"/>
            <a:ext cx="3314880" cy="552240"/>
          </a:xfrm>
          <a:prstGeom prst="cube">
            <a:avLst>
              <a:gd name="adj" fmla="val 11856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阶段性减征基本医疗保险费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" name="图片 5" descr=""/>
          <p:cNvPicPr/>
          <p:nvPr/>
        </p:nvPicPr>
        <p:blipFill>
          <a:blip r:embed="rId2"/>
          <a:stretch/>
        </p:blipFill>
        <p:spPr>
          <a:xfrm>
            <a:off x="433440" y="458640"/>
            <a:ext cx="860400" cy="622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8504280" y="77760"/>
            <a:ext cx="582480" cy="5011920"/>
          </a:xfrm>
          <a:prstGeom prst="rect">
            <a:avLst/>
          </a:prstGeom>
          <a:ln w="0">
            <a:noFill/>
          </a:ln>
        </p:spPr>
      </p:pic>
      <p:sp>
        <p:nvSpPr>
          <p:cNvPr id="58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57090A1-4160-4FC9-8644-728C13FEC4D4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7"/>
          <p:cNvSpPr/>
          <p:nvPr/>
        </p:nvSpPr>
        <p:spPr>
          <a:xfrm>
            <a:off x="520560" y="23796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26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BEB98E0-8381-486E-826B-380155A09BC3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文本框 3"/>
          <p:cNvSpPr/>
          <p:nvPr/>
        </p:nvSpPr>
        <p:spPr>
          <a:xfrm>
            <a:off x="1066680" y="1268280"/>
            <a:ext cx="7510680" cy="2225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办要点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免缓政策出台前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缴纳的滞纳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县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税务部门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职权退，无需企业申请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：传递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庆市退滞纳金明细表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局统一后台提信息供区局参考核实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7"/>
          <p:cNvSpPr/>
          <p:nvPr/>
        </p:nvSpPr>
        <p:spPr>
          <a:xfrm>
            <a:off x="428760" y="241200"/>
            <a:ext cx="61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3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5"/>
          <p:cNvSpPr/>
          <p:nvPr/>
        </p:nvSpPr>
        <p:spPr>
          <a:xfrm>
            <a:off x="3765960" y="20732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DA33B07-6D5B-4DD3-AA6C-E2B14047AB8F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1655280" y="289404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Black"/>
                <a:ea typeface="微软雅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立方体 13"/>
          <p:cNvSpPr/>
          <p:nvPr/>
        </p:nvSpPr>
        <p:spPr>
          <a:xfrm>
            <a:off x="665280" y="1779480"/>
            <a:ext cx="2685960" cy="1758960"/>
          </a:xfrm>
          <a:prstGeom prst="cube">
            <a:avLst>
              <a:gd name="adj" fmla="val 21967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阶段性减征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基本医疗保险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立方体 13"/>
          <p:cNvSpPr/>
          <p:nvPr/>
        </p:nvSpPr>
        <p:spPr>
          <a:xfrm>
            <a:off x="3809880" y="1434960"/>
            <a:ext cx="4351320" cy="552600"/>
          </a:xfrm>
          <a:prstGeom prst="cube">
            <a:avLst>
              <a:gd name="adj" fmla="val 11851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微软雅黑"/>
              </a:rPr>
              <a:t>减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基本医疗保险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立方体 14"/>
          <p:cNvSpPr/>
          <p:nvPr/>
        </p:nvSpPr>
        <p:spPr>
          <a:xfrm>
            <a:off x="3809880" y="3181320"/>
            <a:ext cx="4351320" cy="552600"/>
          </a:xfrm>
          <a:prstGeom prst="cube">
            <a:avLst>
              <a:gd name="adj" fmla="val 11851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微软雅黑"/>
              </a:rPr>
              <a:t>缓缴职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医疗保险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7"/>
          <p:cNvSpPr/>
          <p:nvPr/>
        </p:nvSpPr>
        <p:spPr>
          <a:xfrm>
            <a:off x="520560" y="23796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44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C7F169E-18FD-43AC-B01F-5762634721A5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563400" y="838080"/>
            <a:ext cx="4668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微软雅黑"/>
                <a:ea typeface="微软雅黑"/>
              </a:rPr>
              <a:t>一、减征基本医疗保险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文本框 2"/>
          <p:cNvSpPr/>
          <p:nvPr/>
        </p:nvSpPr>
        <p:spPr>
          <a:xfrm>
            <a:off x="727200" y="1444680"/>
            <a:ext cx="6976800" cy="2457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（一）减征（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渝医保发〔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2020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〕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10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号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—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期间，参加我市职工医保的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用人单位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（机关事业单位除外），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单位应缴纳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的基本医保费实行减半征收，费率由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8%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降低到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4%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用人单位已全额缴纳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和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职工基本医保费的，对于其减征部分的金额，可以按规定选择直接退费，也可以由参保单位选择冲抵以后月份的缴费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生育保险与大额医保费率继续维持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0.5%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1.5%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不变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7"/>
          <p:cNvSpPr/>
          <p:nvPr/>
        </p:nvSpPr>
        <p:spPr>
          <a:xfrm>
            <a:off x="520560" y="23796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2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0BF3D02-DB50-4BB7-A99A-3F17E6B7E790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文本框 4"/>
          <p:cNvSpPr/>
          <p:nvPr/>
        </p:nvSpPr>
        <p:spPr>
          <a:xfrm>
            <a:off x="898560" y="1390680"/>
            <a:ext cx="7424640" cy="128196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经办要点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减免流程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保按月形成减征后的征收计划</a:t>
            </a:r>
            <a:r>
              <a:rPr b="0" lang="zh-CN" sz="13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递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税务部门征收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微软雅黑"/>
              </a:rPr>
              <a:t>对已全额缴纳</a:t>
            </a: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微软雅黑"/>
              </a:rPr>
              <a:t>月和</a:t>
            </a: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微软雅黑"/>
              </a:rPr>
              <a:t>3</a:t>
            </a:r>
            <a:r>
              <a:rPr b="0" lang="zh-CN" sz="1300" spc="-1" strike="noStrike">
                <a:solidFill>
                  <a:srgbClr val="000000"/>
                </a:solidFill>
                <a:latin typeface="等线"/>
                <a:ea typeface="微软雅黑"/>
              </a:rPr>
              <a:t>月职工基本医保费的处理：抵，退</a:t>
            </a:r>
            <a:endParaRPr b="0" lang="en-US" sz="13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7"/>
          <p:cNvSpPr/>
          <p:nvPr/>
        </p:nvSpPr>
        <p:spPr>
          <a:xfrm>
            <a:off x="520560" y="23796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9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8A2E8EF-E5B4-4C37-B0CB-DEE65BB7E5CE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563400" y="838080"/>
            <a:ext cx="7043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微软雅黑"/>
                <a:ea typeface="微软雅黑"/>
              </a:rPr>
              <a:t>二、缓缴职工基本医疗保险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文本框 2"/>
          <p:cNvSpPr/>
          <p:nvPr/>
        </p:nvSpPr>
        <p:spPr>
          <a:xfrm>
            <a:off x="847800" y="1824120"/>
            <a:ext cx="7000920" cy="11642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因疫情影响，对参加我市职工医保的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用人单位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季度应缴纳的职工医保费可缓缴，最迟可在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月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31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日前缴纳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。缓缴期间，不收取滞纳金，不影响参保人员正常享受待遇，不影响个人权益记录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7"/>
          <p:cNvSpPr/>
          <p:nvPr/>
        </p:nvSpPr>
        <p:spPr>
          <a:xfrm>
            <a:off x="428760" y="241200"/>
            <a:ext cx="61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1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5"/>
          <p:cNvSpPr/>
          <p:nvPr/>
        </p:nvSpPr>
        <p:spPr>
          <a:xfrm>
            <a:off x="3765960" y="20732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95BEA0F-1569-4556-8B90-E34535AFCB05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2995560" y="1025640"/>
            <a:ext cx="4037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出台背景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文本框 2"/>
          <p:cNvSpPr/>
          <p:nvPr/>
        </p:nvSpPr>
        <p:spPr>
          <a:xfrm>
            <a:off x="1655280" y="289404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Black"/>
                <a:ea typeface="微软雅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8" name="图片 5133" descr=""/>
          <p:cNvPicPr/>
          <p:nvPr/>
        </p:nvPicPr>
        <p:blipFill>
          <a:blip r:embed="rId3"/>
          <a:stretch/>
        </p:blipFill>
        <p:spPr>
          <a:xfrm>
            <a:off x="1017720" y="1289160"/>
            <a:ext cx="1773000" cy="13698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4"/>
          <p:cNvSpPr/>
          <p:nvPr/>
        </p:nvSpPr>
        <p:spPr>
          <a:xfrm>
            <a:off x="2995560" y="1762200"/>
            <a:ext cx="458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新冠肺炎疫情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发生以来，党中央、国务院高度重视疫情防控和经济社会发展工作。习近平总书记多次作出重要指示，强调要继续研究出台有针对性和阶段性的减税降费措施，缓解企业经营困难。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日，李克强总理主持召开国务院常务会议，决定阶段性减免企业社保费、医保费和实施缓缴住房公积金政策，多措并举稳企业、稳就业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7"/>
          <p:cNvSpPr/>
          <p:nvPr/>
        </p:nvSpPr>
        <p:spPr>
          <a:xfrm>
            <a:off x="428760" y="241200"/>
            <a:ext cx="61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72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5"/>
          <p:cNvSpPr/>
          <p:nvPr/>
        </p:nvSpPr>
        <p:spPr>
          <a:xfrm>
            <a:off x="3765960" y="20732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156AD86-0EE5-4DDB-A316-6D12ACA7DC96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文本框 2"/>
          <p:cNvSpPr/>
          <p:nvPr/>
        </p:nvSpPr>
        <p:spPr>
          <a:xfrm>
            <a:off x="1655280" y="289404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Black"/>
                <a:ea typeface="微软雅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立方体 13"/>
          <p:cNvSpPr/>
          <p:nvPr/>
        </p:nvSpPr>
        <p:spPr>
          <a:xfrm>
            <a:off x="665280" y="1573200"/>
            <a:ext cx="2612880" cy="1965240"/>
          </a:xfrm>
          <a:prstGeom prst="cube">
            <a:avLst>
              <a:gd name="adj" fmla="val 11851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阶段性减免缓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企业社保三险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立方体 13"/>
          <p:cNvSpPr/>
          <p:nvPr/>
        </p:nvSpPr>
        <p:spPr>
          <a:xfrm>
            <a:off x="3763800" y="1508040"/>
            <a:ext cx="2928960" cy="552600"/>
          </a:xfrm>
          <a:prstGeom prst="cube">
            <a:avLst>
              <a:gd name="adj" fmla="val 11851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减免</a:t>
            </a: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微软雅黑"/>
              </a:rPr>
              <a:t>社保三险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立方体 14"/>
          <p:cNvSpPr/>
          <p:nvPr/>
        </p:nvSpPr>
        <p:spPr>
          <a:xfrm>
            <a:off x="3763800" y="3216240"/>
            <a:ext cx="2924280" cy="552600"/>
          </a:xfrm>
          <a:prstGeom prst="cube">
            <a:avLst>
              <a:gd name="adj" fmla="val 11851"/>
            </a:avLst>
          </a:prstGeom>
          <a:solidFill>
            <a:srgbClr val="00b0f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微软雅黑"/>
              </a:rPr>
              <a:t>缓缴社保三险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7"/>
          <p:cNvSpPr/>
          <p:nvPr/>
        </p:nvSpPr>
        <p:spPr>
          <a:xfrm>
            <a:off x="434880" y="241200"/>
            <a:ext cx="61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1BDC549-2CF1-480B-9679-71FBA82FFD3B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563400" y="838080"/>
            <a:ext cx="74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一、减免社保三险</a:t>
            </a:r>
            <a:r>
              <a:rPr b="1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(</a:t>
            </a:r>
            <a:r>
              <a:rPr b="1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养老、失业、工伤</a:t>
            </a:r>
            <a:r>
              <a:rPr b="1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509760" y="1552680"/>
            <a:ext cx="8005680" cy="127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一）减免（</a:t>
            </a:r>
            <a:r>
              <a:rPr b="1" lang="zh-CN" sz="1400" spc="-1" strike="noStrike" u="sng">
                <a:solidFill>
                  <a:srgbClr val="000000"/>
                </a:solidFill>
                <a:uFillTx/>
                <a:latin typeface="微软雅黑"/>
                <a:ea typeface="等线"/>
              </a:rPr>
              <a:t>渝人社发〔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微软雅黑"/>
                <a:ea typeface="等线"/>
              </a:rPr>
              <a:t>2020</a:t>
            </a:r>
            <a:r>
              <a:rPr b="1" lang="zh-CN" sz="1400" spc="-1" strike="noStrike" u="sng">
                <a:solidFill>
                  <a:srgbClr val="000000"/>
                </a:solidFill>
                <a:uFillTx/>
                <a:latin typeface="微软雅黑"/>
                <a:ea typeface="等线"/>
              </a:rPr>
              <a:t>〕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微软雅黑"/>
                <a:ea typeface="等线"/>
              </a:rPr>
              <a:t>19</a:t>
            </a:r>
            <a:r>
              <a:rPr b="1" lang="zh-CN" sz="1400" spc="-1" strike="noStrike" u="sng">
                <a:solidFill>
                  <a:srgbClr val="000000"/>
                </a:solidFill>
                <a:uFillTx/>
                <a:latin typeface="微软雅黑"/>
                <a:ea typeface="等线"/>
              </a:rPr>
              <a:t>号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、从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至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，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免征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全市各类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中小微企业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三项社会保险费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单位缴费部分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，职工个人缴费部分不予减免。以单位方式参保的个体工商户参照执行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、从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至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，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减半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征收全市各类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大型企业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三项社会保险费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单位缴费部分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，职工个人缴费部分不予减免。民办非企业单位、社会团体等各类社会组织（不含机关事业单位）参照执行</a:t>
            </a:r>
            <a:r>
              <a:rPr b="0" lang="zh-CN" sz="1400" spc="-1" strike="noStrike">
                <a:solidFill>
                  <a:srgbClr val="c00000"/>
                </a:solidFill>
                <a:latin typeface="等线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7"/>
          <p:cNvSpPr/>
          <p:nvPr/>
        </p:nvSpPr>
        <p:spPr>
          <a:xfrm>
            <a:off x="395280" y="24120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1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87F2E21-FBDD-455B-ACEB-BC151A535C0C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文本框 3"/>
          <p:cNvSpPr/>
          <p:nvPr/>
        </p:nvSpPr>
        <p:spPr>
          <a:xfrm>
            <a:off x="1103400" y="1444680"/>
            <a:ext cx="7539120" cy="20120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确定原则和办理程序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、中、小、微型企业类型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划分：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统计部门根据工信部联企业〔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〕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、国统字〔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〕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确定后交由市人力社保部门，市人力社保部门下发区县人力社保部门直接办理，无需企业申报审批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民办非企业单位、社会团体等各类社会组织的划分：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本通知下发之日前经有关部门登记注册的单位类型为准。按照机关事业单位、民办非企业单位、社会团体、其他各类社会组织划型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7"/>
          <p:cNvSpPr/>
          <p:nvPr/>
        </p:nvSpPr>
        <p:spPr>
          <a:xfrm>
            <a:off x="465120" y="24120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8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A99728D-4812-4EC2-8F06-FF3EA04C0FC4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693720" y="1336680"/>
            <a:ext cx="7170840" cy="2864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三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  办 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关于减免流程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社按月形成减免后的征收计划传递给税务部门征收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关于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份已缴社保费处理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参保单位已缴纳应减免部分，多缴部分抵；若有退费意愿的可办理退费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保经办机构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养老、工伤、失业）负责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：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企业不申请不交资料，批量退费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社保经办机构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收集意愿，办理相关退费手续  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账户问题          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7"/>
          <p:cNvSpPr/>
          <p:nvPr/>
        </p:nvSpPr>
        <p:spPr>
          <a:xfrm>
            <a:off x="482760" y="241200"/>
            <a:ext cx="61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4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B59EA4D-8720-41EF-B6BE-73DBC25CD3FB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563400" y="838080"/>
            <a:ext cx="466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二、缓缴社保三险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文本框 2"/>
          <p:cNvSpPr/>
          <p:nvPr/>
        </p:nvSpPr>
        <p:spPr>
          <a:xfrm>
            <a:off x="384120" y="1436760"/>
            <a:ext cx="7867800" cy="1483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（一）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缓缴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对受疫情影响，面临</a:t>
            </a:r>
            <a:r>
              <a:rPr b="0" lang="zh-CN" sz="1400" spc="-1" strike="noStrike">
                <a:solidFill>
                  <a:srgbClr val="ff0000"/>
                </a:solidFill>
                <a:latin typeface="等线"/>
                <a:ea typeface="微软雅黑"/>
              </a:rPr>
              <a:t>暂时性生产经营困难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且确实无力足额缴纳社会保险费的参保单位，在减免政策执行期内（中小微企业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至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，大型企业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至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），可申请缓缴从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020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月开始的当期应缴纳的社会保险费，征收期最长可延长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微软雅黑"/>
              </a:rPr>
              <a:t>个月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（即：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月应缴费最长可延长至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7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月，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3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月应缴费最长可延长至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8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等线"/>
                <a:ea typeface="微软雅黑"/>
              </a:rPr>
              <a:t>月，依此类推）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7"/>
          <p:cNvSpPr/>
          <p:nvPr/>
        </p:nvSpPr>
        <p:spPr>
          <a:xfrm>
            <a:off x="477720" y="23796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2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4809756-2BA2-4E18-8424-DADF7D0F2023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1127160" y="1712880"/>
            <a:ext cx="7047000" cy="1585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原则和办理程序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缓缴条件的参保单位，向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参保地人力社保部门提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征收期延长申请，人力社保部门会同税务部门审核办理，并报市人力社保局、国家税务总局重庆市税务局备案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76356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7"/>
          <p:cNvSpPr/>
          <p:nvPr/>
        </p:nvSpPr>
        <p:spPr>
          <a:xfrm>
            <a:off x="520560" y="23796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微软雅黑"/>
              </a:rPr>
              <a:t>重庆市阶段性减免社保费政策与实务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9" name="图片 8" descr=""/>
          <p:cNvPicPr/>
          <p:nvPr/>
        </p:nvPicPr>
        <p:blipFill>
          <a:blip r:embed="rId2"/>
          <a:stretch/>
        </p:blipFill>
        <p:spPr>
          <a:xfrm>
            <a:off x="7800840" y="52560"/>
            <a:ext cx="981360" cy="707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8"/>
          <p:cNvSpPr/>
          <p:nvPr/>
        </p:nvSpPr>
        <p:spPr>
          <a:xfrm>
            <a:off x="4869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3753360" y="3119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0708049-327E-4689-B6B9-FD6836094D95}" type="slidenum">
              <a:rPr b="0" lang="zh-CN" sz="9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892080" y="1014480"/>
            <a:ext cx="7483680" cy="2651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办要点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20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0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前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渝人社发〔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〕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）执行，对三项社会保险费由参保单位自行选择缴纳时间，无须申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系统直接设置限缴期限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20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0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至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0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前向人社部门申请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同税务部门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审核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办理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报市局备案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税务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缓缴名单将对应属期的限缴时间按申请延长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在系统设置限缴期限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5T02:27:00Z</dcterms:created>
  <dc:creator>www.515ppt.com</dc:creator>
  <dc:description>更多精品文档，请访问www.515ppt.com</dc:description>
  <cp:keywords>更多精品文档，请访问www.515ppt.com</cp:keywords>
  <dc:language>en-US</dc:language>
  <cp:lastModifiedBy>PC</cp:lastModifiedBy>
  <dcterms:modified xsi:type="dcterms:W3CDTF">2020-11-18T11:09:21Z</dcterms:modified>
  <cp:revision>168</cp:revision>
  <dc:subject>www.515ppt.com</dc:subject>
  <dc:title>www.515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33</vt:lpwstr>
  </property>
</Properties>
</file>